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0C9-AEF1-4CDD-BD06-E92BBB71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297-6262-4D02-B3DC-ED7A8F45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839-E822-49C8-A2FD-4AB7DD70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EC3-1BA7-4815-9E68-47706CF6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661-8E3A-48C4-B35B-EA5B928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165-0433-4146-95A9-7277708B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100-81AF-4669-9B21-C7EA86DE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8AE-2CA9-43B9-B452-4D4191C0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D43-CA5D-4F70-A37D-E2948489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A5E-E898-4EC8-9F6D-7915043B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B6F-8204-48DB-8B24-FE5E4EF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D09-ADC0-4AB4-842D-C064675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3832-9129-4BD4-A24E-4965F9B88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. 10-6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ing the Difference Between 2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2 proportions involves all of the same procedures a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your test statistic using your calculator test #6.  (formula on next sl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your C.V.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your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= Population proportion for each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362320" y="457200"/>
                <a:ext cx="396216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09480" y="4343400"/>
                <a:ext cx="18288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3276720"/>
                <a:ext cx="10666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800600" y="304920"/>
            <a:ext cx="1523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28600"/>
            <a:ext cx="1600200" cy="254160"/>
          </a:xfrm>
          <a:custGeom>
            <a:avLst/>
            <a:gdLst/>
            <a:ahLst/>
            <a:rect l="l" t="t" r="r" b="b"/>
            <a:pathLst>
              <a:path w="1008" h="160">
                <a:moveTo>
                  <a:pt x="0" y="64"/>
                </a:moveTo>
                <a:cubicBezTo>
                  <a:pt x="276" y="32"/>
                  <a:pt x="552" y="0"/>
                  <a:pt x="720" y="16"/>
                </a:cubicBezTo>
                <a:cubicBezTo>
                  <a:pt x="888" y="32"/>
                  <a:pt x="948" y="96"/>
                  <a:pt x="1008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6858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again, not used -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09480" y="5562720"/>
                <a:ext cx="13734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CONFIDENCE INTERVAL you will use test #B in your calculator…2 PROPORTION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4:56:24Z</dcterms:created>
  <dc:creator>jgonzale</dc:creator>
  <dc:description/>
  <dc:language>en-US</dc:language>
  <cp:lastModifiedBy>jgonzale</cp:lastModifiedBy>
  <dcterms:modified xsi:type="dcterms:W3CDTF">2009-04-19T13:49:55Z</dcterms:modified>
  <cp:revision>5</cp:revision>
  <dc:subject/>
  <dc:title>Sec. 10-6: Testing the Difference Between 2 Proportions</dc:title>
</cp:coreProperties>
</file>